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1F2-3849-41D0-ACC7-7D5706B6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6E6-8FDD-47E4-A824-64B81AF5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6C3-3CF7-4915-A3E3-0C27CB03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EDD-4311-4409-BE0C-DE73A341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0B3-814F-43D4-96B2-91A9CE41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730-ECA9-448F-B553-2EB0E30C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00C-6E76-4926-865E-7EA52D88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233-0CFC-4297-8D80-5353C26C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E4F-441D-4E17-8DB9-9342281A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203-ECFD-4886-8747-05B47D3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6FB-A1CD-4DE6-B08B-DBAD7060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06D-0D2B-4164-B145-D5297CE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7E06-16A4-4520-BAB5-08170BABD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0470" t="23960" r="10155" b="15627"/>
          <a:stretch/>
        </p:blipFill>
        <p:spPr>
          <a:xfrm>
            <a:off x="457200" y="423720"/>
            <a:ext cx="800100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7823" t="31077" r="15811" b="24438"/>
          <a:stretch/>
        </p:blipFill>
        <p:spPr>
          <a:xfrm>
            <a:off x="1447920" y="1143000"/>
            <a:ext cx="6248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11:21Z</dcterms:created>
  <dc:creator>Patrick J. Mooney</dc:creator>
  <dc:description/>
  <dc:language>en-US</dc:language>
  <cp:lastModifiedBy>Patrick J. Mooney</cp:lastModifiedBy>
  <dcterms:modified xsi:type="dcterms:W3CDTF">2010-02-22T19:34:56Z</dcterms:modified>
  <cp:revision>1</cp:revision>
  <dc:subject/>
  <dc:title>Slide 1</dc:title>
</cp:coreProperties>
</file>